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1A3-22D5-4C01-B826-E4E36533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1DA-73AD-4A7B-9F34-0E9FFB3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47D-F467-4548-8132-3E09B8BF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AA3-1567-459F-8DFA-B54BF456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85E-53D0-4F0D-B916-E052EF33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FE65-FF05-4C41-99F8-CC0763A9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DD9F-18BD-40D2-87DA-21E42F49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244F-9274-466B-B0D1-97C60B4A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8421-A33B-46AF-9798-7E882334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B243-094A-4631-9C6B-25DF0237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3211-7458-4195-BBE3-AE815836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C56-8068-40C3-A20F-0C958F6E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FFFB-4924-4BD6-B28C-96214F1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40C3-CBF0-439A-9621-0B19BE85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E643-886B-4CE3-A743-FEFF2EC4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F590-1988-48DE-BB03-654F63CB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5BC8-6397-4846-9F38-A03C4DA1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AF3-8F01-450D-BA06-787A77E7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1FF-18F2-4F42-BD70-5DCE4B2D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3A9-362A-411F-9F05-3497BA1A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2C0-CF5D-47C5-BAF6-BC8DDFD0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9A7-541C-440D-A22A-0889D3DD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3F7-78A9-4C96-AF5D-1488AFF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760-65FA-495E-8975-C7E789C5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4449-FD9E-4A75-A8D8-84B31B07A22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0ED-4706-4B64-9F72-0308C224F6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66"/>
                </a:solidFill>
                <a:latin typeface="Garamond"/>
              </a:rPr>
              <a:t>Me llamo __________</a:t>
            </a:r>
            <a:r>
              <a:rPr b="0" lang="en-US" sz="36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999966"/>
                </a:solidFill>
                <a:latin typeface="Garamond"/>
              </a:rPr>
              <a:t>Clase 6 nh(602)</a:t>
            </a:r>
            <a:br>
              <a:rPr sz="3600"/>
            </a:br>
            <a:r>
              <a:rPr b="0" lang="en-US" sz="3600" spc="-1" strike="noStrike">
                <a:solidFill>
                  <a:srgbClr val="999966"/>
                </a:solidFill>
                <a:latin typeface="Garamond"/>
              </a:rPr>
              <a:t> La fecha es el 17 de enero del 2013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ropósito # 33: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Comprendes los verbos de cambio radic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juga los siguientes verbos en forma de “BOT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enzar (to begi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(to underst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ir (to inj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opezar (to tumble 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travesar (to cro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Verbos de cambio radical O</a:t>
            </a:r>
            <a:r>
              <a:rPr b="0" lang="en-US" sz="4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8000"/>
                </a:solidFill>
                <a:latin typeface="Garamond"/>
              </a:rPr>
              <a:t> UE</a:t>
            </a:r>
            <a:br>
              <a:rPr sz="4000"/>
            </a:b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(stem-changing verbs O</a:t>
            </a:r>
            <a:r>
              <a:rPr b="0" i="1" lang="en-US" sz="4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666699"/>
                </a:solidFill>
                <a:latin typeface="Garamond"/>
              </a:rPr>
              <a:t>UE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ther set of stem-changing verbs 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return to a pl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be able to 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slee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stem changes to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all forms EXCEP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sotr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 The endings remain the same as in regular –ER/-IR verb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area # 33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 los verbos en forma de BOTA (O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v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return to a pl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be able to 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rmi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to slee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3 ORIGINAL SENTENCES with each verb. Make sure you use different pronouns or subjects. Get creative!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9 tot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dcterms:modified xsi:type="dcterms:W3CDTF">2013-01-22T18:55:04Z</dcterms:modified>
  <cp:revision>16</cp:revision>
  <dc:subject/>
  <dc:title>Me llamo __________   Clase 7IM La fecha es el 2 de diciembre del 2010</dc:title>
</cp:coreProperties>
</file>